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3/31/10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1" marL="144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22716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3" marL="68580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90000"/>
              <a:buFont typeface="Wingdings 2" charset="2"/>
              <a:buChar char="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4" marL="102888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5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6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Click to edit the title text format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02600" y="6502320"/>
            <a:ext cx="1568520" cy="31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1"/>
          </p:nvPr>
        </p:nvSpPr>
        <p:spPr>
          <a:xfrm>
            <a:off x="4509720" y="77760"/>
            <a:ext cx="432900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E2A5C745-52DA-4B87-8D6D-567DFC6AC8C5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31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2D113A66-1887-4532-9D88-7679F9BE13C3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3:58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10080" y="77760"/>
            <a:ext cx="432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61AC0E5D-3ED0-40A2-A811-2862DED1997D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31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C3D4866D-8ED1-402B-8C8B-08B4FE7BCC89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3:58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8720" y="115560"/>
            <a:ext cx="1981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9/30/08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98960" y="646200"/>
            <a:ext cx="564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Mas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Valuation Summary of the BREP Funds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382680" y="1398600"/>
            <a:ext cx="14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70080" y="1270080"/>
            <a:ext cx="698400" cy="172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479600" y="4146480"/>
            <a:ext cx="6130800" cy="2095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31640" y="1746360"/>
            <a:ext cx="852804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91960" y="730080"/>
            <a:ext cx="265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98960" y="564840"/>
            <a:ext cx="5649840" cy="426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Summary of Investments Subject to </a:t>
            </a:r>
            <a:br>
              <a:rPr sz="1400"/>
            </a:b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Write-Ups / Downs at 3/31/10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266760" y="1146240"/>
            <a:ext cx="14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note"/>
          <p:cNvSpPr/>
          <p:nvPr/>
        </p:nvSpPr>
        <p:spPr>
          <a:xfrm>
            <a:off x="369720" y="6083640"/>
            <a:ext cx="734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te: Non USD investments are reflected at the acquisition foreign exchange rate in the above analysis and are marked to market in BX GAAP report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5960" y="1393920"/>
            <a:ext cx="85345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91960" y="730080"/>
            <a:ext cx="265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98960" y="564840"/>
            <a:ext cx="5649840" cy="426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Summary of Investments Subject to </a:t>
            </a:r>
            <a:br>
              <a:rPr sz="1400"/>
            </a:b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Write-Ups / Downs at 3/31/10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266760" y="1146240"/>
            <a:ext cx="14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note"/>
          <p:cNvSpPr/>
          <p:nvPr/>
        </p:nvSpPr>
        <p:spPr>
          <a:xfrm>
            <a:off x="379440" y="5883480"/>
            <a:ext cx="734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te: Non USD investments are reflected at the acquisition foreign exchange rate in the above analysis and are marked to market in BX GAAP report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36600" y="1432080"/>
            <a:ext cx="869004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13:30Z</dcterms:created>
  <dc:creator>TBG</dc:creator>
  <dc:description/>
  <dc:language>en-US</dc:language>
  <cp:lastModifiedBy>LEVYD</cp:lastModifiedBy>
  <cp:lastPrinted>2008-04-09T04:03:18Z</cp:lastPrinted>
  <dcterms:modified xsi:type="dcterms:W3CDTF">2010-03-22T19:06:10Z</dcterms:modified>
  <cp:revision>5173</cp:revision>
  <dc:subject/>
  <dc:title>Page Title</dc:title>
</cp:coreProperties>
</file>